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move the slide</a:t>
            </a:r>
            <a:endParaRPr b="0" lang="en-US" sz="3800" spc="-1" strike="noStrike">
              <a:solidFill>
                <a:srgbClr val="020202"/>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A03E-188B-4DFA-A944-14C2EB0D79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8FBF-0933-488E-9202-A9957095C9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0F80-DD50-4DB8-89EC-2F164BDDC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EE1F-F5B8-42C3-ACC5-82C496620D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a survivor’s understanding and ability to accept/deny services is the key to informed cons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Recommendation 6, </a:t>
            </a:r>
            <a:r>
              <a:rPr b="0" i="1" lang="en-GB" sz="1200" spc="-1" strike="noStrike">
                <a:solidFill>
                  <a:srgbClr val="000000"/>
                </a:solidFill>
                <a:latin typeface="Arial"/>
              </a:rPr>
              <a:t>WHO Ethical and safety recommendations for researching, documenting and monitoring sexual violence in emergencies. </a:t>
            </a:r>
            <a:r>
              <a:rPr b="0" lang="en-GB" sz="1200" spc="-1" strike="noStrike">
                <a:solidFill>
                  <a:srgbClr val="000000"/>
                </a:solidFill>
                <a:latin typeface="Arial"/>
              </a:rPr>
              <a:t>© World Health Organization,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3FA0-08CC-4A66-9A99-37DB86CD2E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AABE-0E05-489D-A5DF-C27C77FA90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A3D0-0AE0-4967-BAA1-EE9DD9A9AC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2A92-F759-4211-A268-84A5B1C2A2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amination and treatment options will depend on when the survivor presents and the history prov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B097-2017-4BA2-97DF-746CEE3B77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CB79-009F-4408-9EBE-DBFE8EA63F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D6E11-2F31-4C94-84F0-C7F1F18CF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8867-35F7-47FF-9DCF-2F71A1D31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3AA44E-28A1-40C7-8BE6-FCB1790601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04128-7306-4628-9C43-5C6D398476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374C1-391F-4FE9-BAE8-A0E14A9BF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95EFA9-D4D1-46F0-8EC3-59588A129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09FBE-4CAC-4ACF-807E-378360146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33E7A-2731-49A6-B7AD-40656BF6D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D36FF4-255F-481B-9DE3-364AAE577B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587244-C9EA-4B62-8B04-C2D19D8187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7413FD-2FB6-448C-90DD-79B920A3B7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1C3448-A97E-474A-800B-7F11C8A037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062D4-1E91-4644-8832-FC95FE7D3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3B998B-3446-4A09-A99E-316474BE84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FB5EE5-A4F2-45B1-A0F6-7AC43BF596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D874B3-2EFF-46C0-A270-DA80F496E8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36C312-93BA-425D-B5DB-37A38BB482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21261D-9E52-46F5-9516-BCEFA28657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3552E4-A01A-4CB1-8F9C-15F0C8370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93C867-56B0-4924-9272-184D5EB3A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A731F3-E4AD-42E2-AB9B-72A68C178F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72EEDA-9512-4EFE-BD98-B648EF630B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4FB72F-6E71-4F30-8B3D-69542AD3DF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843EE-9F25-4B24-87C6-57C9D361D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C00AB5-B993-4AC8-BC15-05C6BE6C5E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B46473-C753-4D12-A704-16BD59D3AD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E6F78C-C7AB-4C43-B717-3963291483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EE8B34-ED66-416A-869F-13A583A791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272A52-8E03-42C9-87F6-9E95E1754F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F4F74D-B8FE-4C78-951C-D65C2DE74A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C5886E-6F73-4C9B-8397-04008E5153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666449-71FA-46B2-9077-4ADC9DCDB4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982679-87F0-4930-84D1-28343BB29F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1F692A-F2FA-4A02-84D7-0B16D704DB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3CEEF28-43F0-4903-8C78-1166B602FE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61E04F-F0C4-4EC8-B988-3B4A553251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CCAE38-C9BD-4592-9EC1-68A61CC600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C60BC6-A212-4B50-89FF-A3A023BFDC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C4343C-F270-4C5E-89CD-09857FEEEA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4806CE-D284-481D-9114-391AFFBA1D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50C73E-4AFD-4F6A-B970-A68BCD60E9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051727-0402-4B3D-9D17-D8E665218D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F4A347-43E8-4648-AC19-55C8A18D76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85A9BA-5F43-4086-A714-136592DD0B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5D8715-FF7D-43B3-8959-4EA26FCE87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CB94A30-AEDF-4592-BBE6-53640906C4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54DF44-156F-40A8-821F-5F3D340115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C2AF6C-842F-4F49-9F28-0B09A1E8E1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7FB5E6-AD31-4D7D-BBAB-9867AA13F4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13EE0C-1099-4D75-A195-33C48D7244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E81E2D-B4A4-489E-B63F-1868EEAB19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D0DF983-A788-43BF-8562-03823C3F5C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ED21A4-4CFC-49F4-8003-8D6789AADD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5F9B76-38FF-41DD-85B4-1B6FB89794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2883C5-2D92-442B-A559-8CE21804C4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3FF915-5E2E-4EA8-B957-36C72FB8A0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1E0F1FA-9794-4CFB-9114-00866F470B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EC01C4-801B-4F2D-842E-4B44C331BA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20E4AA-79C1-4BAD-B6B9-DDC187F5E6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7B3DA8-3693-4B1B-8D66-518C38A8D4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04B287-5724-4A03-85A0-1EFCE8DB71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DC17EB-E5DF-4251-822F-14EFDEE6B1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88BDB5-32EB-4249-A336-5F3C8E6C83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FBC593-6BA3-4FC2-9E8F-0B923CED15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6B3129B-4B97-4E6F-8ED7-20C344DB5B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DC1F68-44F1-4C67-B625-DD93E9153D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6BB8EB-9D2D-49AC-BF63-C1B641465B8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E10845E-A596-4D95-8A6F-BAD8A7FB79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AEB5CE-CCEA-47C5-B21D-B0451E76E5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CB82C7-C073-4F18-9F02-FF6BDA21FC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0C4026-BF1E-4D6F-AD72-DC86E00473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7EFFF1-93AC-4A0B-BE85-94890E743A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32C6D9-11D3-4D7B-8509-87F86DACF9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361064-D617-460F-A6DA-F33E60F1E8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C89169-9036-40F9-8B8A-F275E200CA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BD6D9C-E6D1-4D63-A851-DF6B975D52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6BB85F2-A452-4493-A1EB-F2E2CF02DC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D198E6-B654-45AA-9928-64DFA7CE500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DDB419D-C826-4761-A623-60CB9DBBC9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267D00-2E45-4C06-96A1-002CA241B4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08C9A8-14FC-4103-953C-88746E6A6D3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CD1673-0797-461F-93B7-E00A1B39A0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C4F30D-3FB6-4C67-AC27-C6A0A0C4B4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33AEDC-23AA-4A8E-B703-8335BF4D19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908430-B2A2-41F9-937E-406CD913BD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F56ED4-A82B-4864-BD77-9D26B9781E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7AF9B7-BF85-45D0-A764-3716CC5A43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B5EE22-98A3-4F1F-B966-6D7542F880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8576390-9535-4B83-956D-5A886B4AA5E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1F5DE93-DD45-4F32-9134-E2F665C52D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A8C33D9-7213-45A5-B38E-BC0EB6933F8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691DE9B-A1F0-44B7-9CD2-0A8EC6B951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AD78C5-65A7-4ECC-BF6A-9C70D650F5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89D971-835D-40FE-827A-90F691850F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3BFA99A-0FBF-4D74-9C8B-9569C57769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1A722A3-1C83-4D06-A2C7-1A5E0EB8D0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7342AE-29A8-44AA-8660-D8CC4907681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D6ECF9-C056-4D07-9300-FE7BEC0AE4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E2BA16-9E6B-429A-93DE-C5297191DF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0F2937-DEE4-46BE-BAC8-8DBAB73CA1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BB35DC0-F3F0-4174-80C0-62F81002AB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F8013A-3A38-4FDD-BB31-24CAC9405C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FC20294-89B0-464D-B424-82497041CB6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5AD3505-6AF2-47C6-A252-D15F768BD2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897864-A6DC-4FAF-9BDE-FE7DA163022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62B5B2-CFA4-4F1C-87F1-53ED284CE85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0BAC51D-FB79-483A-A898-722C6A86B2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6BA270-D54A-4AF1-8BDF-5F7536E185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BBB9F9C-CA6E-489E-8F5B-A5D4EFB323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7F43563-22F2-4957-BE5B-66674F6CD7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28CC5A-4911-49DC-8E80-C3624F4F07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78A8-CE70-4028-A834-D93B3F52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2FF782C-8404-4C8D-844F-74E56E1120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2CEF2C-9F3D-4104-8A42-DECEE94204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0B1664-4459-4F34-A299-74C44BCEFC7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A78075-6D6A-4476-86BF-38A7C0373D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BF829C5-1C3C-4AFD-93E7-14DBC5A4F1D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4BFD39A-01FC-4386-89D3-14CB747601C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32C47AB-C3FF-48E6-A3FB-F0FC829EAC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E42440A-F4E0-41DA-8C1B-201EA6F768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47DBA832-2E82-4AC8-BDFE-1F7C744CDD5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E47C7CB-F224-4928-8689-6C62E16E7B7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1582E0-510E-4BB7-BE31-87E0F2A873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90AB9-64F7-4219-84B0-8032F01A7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52253-DBA4-451C-A856-BA9DE5392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721CE-5538-47CF-B77A-8A8CAB75F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A1C575-958F-48F1-A176-778872D7C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D05BA-174A-49B0-B14E-B21B610E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B8B357-0CA4-4855-9C21-F295348A4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75FB0-BAF4-4CE1-BE83-3B6545835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C883A-9BA6-4BEB-84E9-BDBC697D4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66F15-1CAC-478E-800E-C892D9AC1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202EF0-E7D2-4B58-9EDB-40AADD044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86592-DDF5-4CEF-94E9-C906A188E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D9C35-6DDC-4C65-9FCA-554F428F2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9A2B41-C4EA-4487-BBB0-10A1F4415C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6C4C2F-9193-4F77-952E-E171FE5F0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54B1B-71D1-4D23-AFB2-AB1473944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ED8E-7641-41F9-BA67-5A2C8E39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90899-DB98-4DFB-9EBA-D48D8EBC0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135E7-7471-47F9-B3AF-6E2FB6754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4DFD1-6F88-4BDE-8A96-88A9004DC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F823C-8BDC-4526-8337-8453EDCB4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26F6B-843F-4D94-AD96-34F47EC67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1B455-4EB2-4208-B758-F9533960F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9D606-519D-4C77-8B14-35498774F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F2980-5664-4406-BDA7-665616DC1B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4473D-12BC-4C63-AE80-815F21EAA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45DB59-5584-4DDF-B285-AA267685E6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92BC-92C8-4D78-9CB5-4106E66E7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4C560-83C9-4A1D-911F-DBAEA9E9D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CED0A-5E35-48FD-8729-F31C5E4DF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6A476-60AB-4D8D-9535-4D7AD69B4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AB0E8-B5FD-478E-A568-47AA5D3E50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48C82-336D-4D96-B827-32D6782DF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52D0F-72A3-43D6-82BB-56E8807D3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A9475-3064-4967-AD0E-FE49A0BBF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A9821-A88C-4B1F-AE45-9872E1BEC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6B637-80ED-4EA6-BD20-9C4950828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3B1D0B-54CD-47A8-A405-C1FD7B4995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F7248-98AF-4E39-BE19-C2AB405D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6E229F-5AE4-436B-AC09-6DDCA64ED4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7DACF8-B1E6-4DBB-9851-3AAA1EB78B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F96C2-62BA-46C5-AE26-688893554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BEE3C-A799-4392-9CB7-1344289AFA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54FB9F-E4AB-4941-8037-4B9C49B86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9E654-865F-42DA-B40D-F670F9C69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5878F7-652E-4A57-833F-4B1E95EB99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B2D7D-1978-49F4-93F2-79230D716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569FC-4182-4F35-887D-6D5FA0C981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FAD49-A8D9-4721-B062-A56CF30F3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F7802-C2C2-46E3-8AED-F4F64C473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3F3E6C-A80F-43BF-ABAD-509F4B75C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29E116-FD6F-41D9-AE2B-7EB6405F2A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98761F-D862-4C37-9AB8-B0016EFD2C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0CCCF0-2BD3-474E-8F78-05F8CD3402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87E4DD-C4DE-4D06-8BB1-35883900A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0C3C16-4A20-4490-A0EA-026FAFC13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A576D9-724D-463E-AB93-729176A18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D33A2-6B7B-48F0-AF34-2E752D339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0FDDF-E0B6-4D5A-969C-22F9C7C93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0CE3B-2F15-4345-AEA1-E34D414BA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CFFC-440A-4FA3-9AC1-BFD87BF3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FE146-76B2-4E1B-AC60-F35F93AA9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5AB5C-03AF-453F-9300-8C15162BE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A91E94-49D7-4E8D-9767-50C656EA85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C4FF4B-0C30-4BD8-BDFF-3D9B08DDF6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A154DB-2A6F-4609-8F07-D9BD3694BA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ED0E5A-3106-4F9F-8471-00500DF5E2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7CC07-89B8-4067-819C-B0FEE330C2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B8506-B53E-4996-827E-E6A043C25E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00373-82CA-4A51-A8CF-66641FB90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570B3-9AA5-4D4F-AB93-01098A2FE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D1D5-DDC5-479F-801A-29F0752E0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3CA71-C152-4B86-B653-70EFDDCFC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63AEE-68F6-4DD5-98BC-DF34A41E4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DE510-EE33-4862-8F2E-D5F049E00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098F2-F718-4DB6-86DA-A4F384ABD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ECD8B-D615-4754-B8E7-53BA0FBFBC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343B66-9262-4D14-A917-1B99276653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D5ADE0-E4C4-4B45-8200-C7A6CBC4B1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6E4DBC-DD41-4DDD-B118-99581D29FC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BC279C-7B84-4274-9F19-EA6138DF3C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20202"/>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13354-150C-4AB4-A589-5B2D82EC30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F936-C566-411E-8F1B-E9EA937F1B70}"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88B0-36F2-4962-BC73-7DDA23E3EDFB}"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E7CF-90D6-4D42-AD99-C0BBBCEAF511}"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67A7-8383-42CF-9170-7A68621C9017}"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7B64-D8D7-4E44-8631-BC071057DA04}"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D2B0-17EF-4B54-953C-1A19E24C1D36}"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CCC7-5FFC-4BA7-827D-E90B83DF7B2D}"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1BE6-0189-42E5-B21E-10D278735CCC}"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F1C8-6B55-4BC3-A4C1-E0E518AA74D0}"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F8B4-024E-4307-9D35-B7369CCD0A4A}"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58F5-2083-432C-AC7C-AEBBCABBA896}"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6ABD-5DEE-4ADB-A15D-80AEBD8EB848}"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27C6-E3C4-40C4-BA34-D09EE6E0CC53}"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0202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17" name="Straight Connector 10"/>
          <p:cNvSpPr/>
          <p:nvPr/>
        </p:nvSpPr>
        <p:spPr>
          <a:xfrm>
            <a:off x="4816440" y="2286000"/>
            <a:ext cx="3565440" cy="1440"/>
          </a:xfrm>
          <a:prstGeom prst="line">
            <a:avLst/>
          </a:prstGeom>
          <a:ln w="19080">
            <a:solidFill>
              <a:srgbClr val="0202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18" name="Straight Connector 11"/>
          <p:cNvSpPr/>
          <p:nvPr/>
        </p:nvSpPr>
        <p:spPr>
          <a:xfrm>
            <a:off x="874800" y="2286000"/>
            <a:ext cx="3562200" cy="1440"/>
          </a:xfrm>
          <a:prstGeom prst="line">
            <a:avLst/>
          </a:prstGeom>
          <a:ln w="19080">
            <a:solidFill>
              <a:srgbClr val="0202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19" name="Straight Connector 12"/>
          <p:cNvSpPr/>
          <p:nvPr/>
        </p:nvSpPr>
        <p:spPr>
          <a:xfrm>
            <a:off x="4816440" y="2286000"/>
            <a:ext cx="3565440" cy="1440"/>
          </a:xfrm>
          <a:prstGeom prst="line">
            <a:avLst/>
          </a:prstGeom>
          <a:ln w="19080">
            <a:solidFill>
              <a:srgbClr val="0202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726D-2041-4347-86EB-62075F259234}"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12B8-C297-4C47-B5FC-2D2F80DEE7F8}"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D4E6-278C-49A4-ABDE-334325AF1BAF}"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202"/>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9f87b7"/>
              </a:gs>
              <a:gs pos="100000">
                <a:srgbClr val="7030a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Click to edit the title text format</a:t>
            </a:r>
            <a:endParaRPr b="0" lang="en-US" sz="3800" spc="-1" strike="noStrike">
              <a:solidFill>
                <a:srgbClr val="020202"/>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Click to edit the outline text format</a:t>
            </a:r>
            <a:endParaRPr b="0" lang="en-US" sz="2200" spc="-1" strike="noStrike">
              <a:solidFill>
                <a:srgbClr val="020202"/>
              </a:solidFill>
              <a:latin typeface="Trebuchet MS"/>
            </a:endParaRPr>
          </a:p>
          <a:p>
            <a:pPr lvl="1" marL="577800" indent="-2952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cond Outline Level</a:t>
            </a:r>
            <a:endParaRPr b="0" lang="en-US" sz="2200" spc="-1" strike="noStrike">
              <a:solidFill>
                <a:srgbClr val="020202"/>
              </a:solidFill>
              <a:latin typeface="Trebuchet MS"/>
            </a:endParaRPr>
          </a:p>
          <a:p>
            <a:pPr lvl="2" marL="8604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ird Outline Level</a:t>
            </a:r>
            <a:endParaRPr b="0" lang="en-US" sz="2200" spc="-1" strike="noStrike">
              <a:solidFill>
                <a:srgbClr val="020202"/>
              </a:solidFill>
              <a:latin typeface="Trebuchet MS"/>
            </a:endParaRPr>
          </a:p>
          <a:p>
            <a:pPr lvl="3" marL="11430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ourth Outline Level</a:t>
            </a:r>
            <a:endParaRPr b="0" lang="en-US" sz="2200" spc="-1" strike="noStrike">
              <a:solidFill>
                <a:srgbClr val="020202"/>
              </a:solidFill>
              <a:latin typeface="Trebuchet MS"/>
            </a:endParaRPr>
          </a:p>
          <a:p>
            <a:pPr lvl="4" marL="1425600" indent="-282600">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Fifth Outline Level</a:t>
            </a:r>
            <a:endParaRPr b="0" lang="en-US" sz="2200" spc="-1" strike="noStrike">
              <a:solidFill>
                <a:srgbClr val="020202"/>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ixth Outline Level</a:t>
            </a:r>
            <a:endParaRPr b="0" lang="en-US" sz="2200" spc="-1" strike="noStrike">
              <a:solidFill>
                <a:srgbClr val="020202"/>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Seventh Outline Level</a:t>
            </a:r>
            <a:endParaRPr b="0" lang="en-US" sz="2200" spc="-1" strike="noStrike">
              <a:solidFill>
                <a:srgbClr val="020202"/>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030a0"/>
                </a:solidFill>
                <a:latin typeface="Lucida Grande CY"/>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A0E5-DEB5-4BDA-A660-6A0401CE7010}" type="slidenum">
              <a:rPr b="0" lang="en-US" sz="1200" spc="-1" strike="noStrike">
                <a:solidFill>
                  <a:srgbClr val="7030a0"/>
                </a:solidFill>
                <a:latin typeface="Lucida Grande CY"/>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79040" y="380880"/>
            <a:ext cx="7583400" cy="1981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Lucida Grande CY"/>
              </a:rPr>
              <a:t>Module 10: </a:t>
            </a:r>
            <a:br>
              <a:rPr sz="3600"/>
            </a:br>
            <a:r>
              <a:rPr b="0" lang="en-US" sz="3600" spc="-1" strike="noStrike">
                <a:solidFill>
                  <a:srgbClr val="020202"/>
                </a:solidFill>
                <a:latin typeface="Lucida Grande CY"/>
              </a:rPr>
              <a:t>EXPLAINING CARE AND OBTAINING CONSENT</a:t>
            </a:r>
            <a:endParaRPr b="0" lang="en-US" sz="3600" spc="-1" strike="noStrike">
              <a:solidFill>
                <a:srgbClr val="020202"/>
              </a:solidFill>
              <a:latin typeface="Trebuchet MS"/>
            </a:endParaRPr>
          </a:p>
        </p:txBody>
      </p:sp>
      <p:pic>
        <p:nvPicPr>
          <p:cNvPr id="742" name="Picture Placeholder 5" descr="CFS cover picture.png"/>
          <p:cNvPicPr/>
          <p:nvPr/>
        </p:nvPicPr>
        <p:blipFill>
          <a:blip r:embed="rId1"/>
          <a:srcRect l="0" t="-33398" r="0" b="-33398"/>
          <a:stretch/>
        </p:blipFill>
        <p:spPr>
          <a:xfrm>
            <a:off x="779400" y="1828800"/>
            <a:ext cx="4783320" cy="5518080"/>
          </a:xfrm>
          <a:prstGeom prst="rect">
            <a:avLst/>
          </a:prstGeom>
          <a:ln w="0">
            <a:noFill/>
          </a:ln>
        </p:spPr>
      </p:pic>
      <p:sp>
        <p:nvSpPr>
          <p:cNvPr id="743" name=""/>
          <p:cNvSpPr txBox="1"/>
          <p:nvPr/>
        </p:nvSpPr>
        <p:spPr>
          <a:xfrm>
            <a:off x="10058400" y="1676160"/>
            <a:ext cx="3657600" cy="42195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Lucida Grande CY"/>
              </a:rPr>
              <a:t>What does “informed consent” mean? </a:t>
            </a:r>
            <a:endParaRPr b="0" lang="en-US" sz="3200" spc="-1" strike="noStrike">
              <a:solidFill>
                <a:srgbClr val="020202"/>
              </a:solidFill>
              <a:latin typeface="Trebuchet MS"/>
            </a:endParaRPr>
          </a:p>
        </p:txBody>
      </p:sp>
      <p:sp>
        <p:nvSpPr>
          <p:cNvPr id="745" name=""/>
          <p:cNvSpPr txBox="1"/>
          <p:nvPr/>
        </p:nvSpPr>
        <p:spPr>
          <a:xfrm>
            <a:off x="457200" y="1599840"/>
            <a:ext cx="8229600" cy="5257800"/>
          </a:xfrm>
          <a:prstGeom prst="rect">
            <a:avLst/>
          </a:prstGeom>
          <a:noFill/>
          <a:ln w="0">
            <a:noFill/>
          </a:ln>
        </p:spPr>
        <p:txBody>
          <a:bodyPr anchor="t">
            <a:normAutofit/>
          </a:bodyPr>
          <a:p>
            <a:pPr marL="533520" indent="-533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a:p>
            <a:pPr marL="533520" indent="-533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Lucida Grande CY"/>
              </a:rPr>
              <a:t>From the WHO/UNCHR manual:</a:t>
            </a:r>
            <a:r>
              <a:rPr b="0" lang="en-US" sz="3200" spc="-1" strike="noStrike">
                <a:solidFill>
                  <a:srgbClr val="020202"/>
                </a:solidFill>
                <a:latin typeface="Lucida Grande CY"/>
              </a:rPr>
              <a:t> “Consent is often called “informed consent” because it is expected that the patient (or his/her parent(s) or guardian) will receive information on all the relevant issues, to help the patient make a decision about what is best for her/him at the time.”</a:t>
            </a:r>
            <a:endParaRPr b="0" lang="en-US" sz="3200" spc="-1" strike="noStrike">
              <a:solidFill>
                <a:srgbClr val="020202"/>
              </a:solidFill>
              <a:latin typeface="Trebuchet MS"/>
            </a:endParaRPr>
          </a:p>
          <a:p>
            <a:pPr marL="533520" indent="-533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rebuchet MS"/>
            </a:endParaRPr>
          </a:p>
        </p:txBody>
      </p:sp>
      <p:sp>
        <p:nvSpPr>
          <p:cNvPr id="746"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50DC-14F0-4A07-BE73-A78388ECBAB2}"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20202"/>
                </a:solidFill>
                <a:latin typeface="Lucida Grande CY"/>
              </a:rPr>
              <a:t>Informed Consent</a:t>
            </a:r>
            <a:endParaRPr b="0" lang="en-US" sz="3800" spc="-1" strike="noStrike">
              <a:solidFill>
                <a:srgbClr val="020202"/>
              </a:solidFill>
              <a:latin typeface="Trebuchet MS"/>
            </a:endParaRPr>
          </a:p>
        </p:txBody>
      </p:sp>
      <p:sp>
        <p:nvSpPr>
          <p:cNvPr id="748" name=""/>
          <p:cNvSpPr txBox="1"/>
          <p:nvPr/>
        </p:nvSpPr>
        <p:spPr>
          <a:xfrm>
            <a:off x="779040" y="1828800"/>
            <a:ext cx="7583400" cy="4208400"/>
          </a:xfrm>
          <a:prstGeom prst="rect">
            <a:avLst/>
          </a:prstGeom>
          <a:noFill/>
          <a:ln w="0">
            <a:noFill/>
          </a:ln>
        </p:spPr>
        <p:txBody>
          <a:bodyPr anchor="t">
            <a:normAutofit/>
          </a:bodyPr>
          <a:p>
            <a:pPr marL="282600" indent="-282600">
              <a:lnSpc>
                <a:spcPct val="10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Lucida Grande CY"/>
              </a:rPr>
              <a:t>Ensures that survivors are aware of, and understand the purpose and content of the medical history, examination and treatment</a:t>
            </a:r>
            <a:endParaRPr b="0" lang="en-US" sz="3200" spc="-1" strike="noStrike">
              <a:solidFill>
                <a:srgbClr val="020202"/>
              </a:solidFill>
              <a:latin typeface="Trebuchet MS"/>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rebuchet MS"/>
            </a:endParaRPr>
          </a:p>
          <a:p>
            <a:pPr marL="282600" indent="-282600">
              <a:lnSpc>
                <a:spcPct val="10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Lucida Grande CY"/>
              </a:rPr>
              <a:t>Should continue throughout the medical visit (and follow-up)</a:t>
            </a:r>
            <a:endParaRPr b="0" lang="en-US" sz="3200" spc="-1" strike="noStrike">
              <a:solidFill>
                <a:srgbClr val="020202"/>
              </a:solidFill>
              <a:latin typeface="Trebuchet MS"/>
            </a:endParaRPr>
          </a:p>
        </p:txBody>
      </p:sp>
      <p:sp>
        <p:nvSpPr>
          <p:cNvPr id="749"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14C1-3707-4801-ACAE-828900499410}"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60"/>
            <a:ext cx="8229600" cy="1978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20202"/>
                </a:solidFill>
                <a:latin typeface="Lucida Grande CY"/>
              </a:rPr>
              <a:t>Why should we provide a survivor with information before doing an exam?</a:t>
            </a:r>
            <a:br>
              <a:rPr sz="3600"/>
            </a:br>
            <a:endParaRPr b="0" lang="en-US" sz="3400" spc="-1" strike="noStrike">
              <a:solidFill>
                <a:srgbClr val="020202"/>
              </a:solidFill>
              <a:latin typeface="Trebuchet MS"/>
            </a:endParaRPr>
          </a:p>
        </p:txBody>
      </p:sp>
      <p:sp>
        <p:nvSpPr>
          <p:cNvPr id="751" name=""/>
          <p:cNvSpPr txBox="1"/>
          <p:nvPr/>
        </p:nvSpPr>
        <p:spPr>
          <a:xfrm>
            <a:off x="456840" y="1981080"/>
            <a:ext cx="8001000" cy="4530960"/>
          </a:xfrm>
          <a:prstGeom prst="rect">
            <a:avLst/>
          </a:prstGeom>
          <a:noFill/>
          <a:ln w="0">
            <a:noFill/>
          </a:ln>
        </p:spPr>
        <p:txBody>
          <a:bodyPr anchor="t">
            <a:normAutofit fontScale="94000"/>
          </a:bodyPr>
          <a:p>
            <a:pPr marL="265320" indent="-265320">
              <a:lnSpc>
                <a:spcPct val="10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To increase the survivor’s knowledge and comfort</a:t>
            </a:r>
            <a:endParaRPr b="0" lang="en-US" sz="2800" spc="-1" strike="noStrike">
              <a:solidFill>
                <a:srgbClr val="020202"/>
              </a:solidFill>
              <a:latin typeface="Trebuchet MS"/>
            </a:endParaRPr>
          </a:p>
          <a:p>
            <a:pPr marL="265320" indent="-265320">
              <a:lnSpc>
                <a:spcPct val="10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To reduce anxiety and the risk of re-traumatization during the exam</a:t>
            </a:r>
            <a:endParaRPr b="0" lang="en-US" sz="2800" spc="-1" strike="noStrike">
              <a:solidFill>
                <a:srgbClr val="020202"/>
              </a:solidFill>
              <a:latin typeface="Trebuchet MS"/>
            </a:endParaRPr>
          </a:p>
          <a:p>
            <a:pPr marL="265320" indent="-265320">
              <a:lnSpc>
                <a:spcPct val="10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To give the survivor an understanding of what is involved in the exam and any risks and benefits </a:t>
            </a:r>
            <a:endParaRPr b="0" lang="en-US" sz="2800" spc="-1" strike="noStrike">
              <a:solidFill>
                <a:srgbClr val="020202"/>
              </a:solidFill>
              <a:latin typeface="Trebuchet MS"/>
            </a:endParaRPr>
          </a:p>
          <a:p>
            <a:pPr marL="265320" indent="-265320">
              <a:lnSpc>
                <a:spcPct val="10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To guarantee the survivor’s rights (to information, human dignity, self-determination)</a:t>
            </a:r>
            <a:endParaRPr b="0" lang="en-US" sz="2800" spc="-1" strike="noStrike">
              <a:solidFill>
                <a:srgbClr val="020202"/>
              </a:solidFill>
              <a:latin typeface="Trebuchet MS"/>
            </a:endParaRPr>
          </a:p>
        </p:txBody>
      </p:sp>
      <p:sp>
        <p:nvSpPr>
          <p:cNvPr id="752"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C372-E64E-4848-8CEA-9D15DFF9CAD6}"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453960"/>
            <a:ext cx="8229600" cy="1069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Lucida Grande CY"/>
              </a:rPr>
              <a:t>What information should be provided during the consent process?</a:t>
            </a:r>
            <a:endParaRPr b="0" lang="en-US" sz="3200" spc="-1" strike="noStrike">
              <a:solidFill>
                <a:srgbClr val="020202"/>
              </a:solidFill>
              <a:latin typeface="Trebuchet MS"/>
            </a:endParaRPr>
          </a:p>
        </p:txBody>
      </p:sp>
      <p:sp>
        <p:nvSpPr>
          <p:cNvPr id="754" name=""/>
          <p:cNvSpPr txBox="1"/>
          <p:nvPr/>
        </p:nvSpPr>
        <p:spPr>
          <a:xfrm>
            <a:off x="685800" y="1676160"/>
            <a:ext cx="7772400" cy="5181480"/>
          </a:xfrm>
          <a:prstGeom prst="rect">
            <a:avLst/>
          </a:prstGeom>
          <a:noFill/>
          <a:ln w="0">
            <a:noFill/>
          </a:ln>
        </p:spPr>
        <p:txBody>
          <a:bodyPr anchor="t">
            <a:normAutofit fontScale="93000"/>
          </a:bodyPr>
          <a:p>
            <a:pPr marL="262800" indent="-2628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General: </a:t>
            </a:r>
            <a:endParaRPr b="0" lang="en-US" sz="2800" spc="-1" strike="noStrike">
              <a:solidFill>
                <a:srgbClr val="020202"/>
              </a:solidFill>
              <a:latin typeface="Trebuchet MS"/>
            </a:endParaRPr>
          </a:p>
          <a:p>
            <a:pPr marL="262800" indent="-26280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Survivor can refuse any part of  the exam</a:t>
            </a:r>
            <a:endParaRPr b="0" lang="en-US" sz="2800" spc="-1" strike="noStrike">
              <a:solidFill>
                <a:srgbClr val="020202"/>
              </a:solidFill>
              <a:latin typeface="Trebuchet MS"/>
            </a:endParaRPr>
          </a:p>
          <a:p>
            <a:pPr marL="262800" indent="-26280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Consent or lack of consent to any aspect of the exam will not affect access to treatment and care</a:t>
            </a:r>
            <a:endParaRPr b="0" lang="en-US" sz="2800" spc="-1" strike="noStrike">
              <a:solidFill>
                <a:srgbClr val="020202"/>
              </a:solidFill>
              <a:latin typeface="Trebuchet MS"/>
            </a:endParaRPr>
          </a:p>
          <a:p>
            <a:pPr marL="262800" indent="-26280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Where the history/examination will be conducted</a:t>
            </a:r>
            <a:endParaRPr b="0" lang="en-US" sz="2800" spc="-1" strike="noStrike">
              <a:solidFill>
                <a:srgbClr val="020202"/>
              </a:solidFill>
              <a:latin typeface="Trebuchet MS"/>
            </a:endParaRPr>
          </a:p>
          <a:p>
            <a:pPr marL="262800" indent="-26280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Lucida Grande CY"/>
              </a:rPr>
              <a:t>Who will/can be present for the history/exam (does survivor want a support person present?)</a:t>
            </a:r>
            <a:endParaRPr b="0" lang="en-US" sz="2800" spc="-1" strike="noStrike">
              <a:solidFill>
                <a:srgbClr val="020202"/>
              </a:solidFill>
              <a:latin typeface="Trebuchet MS"/>
            </a:endParaRPr>
          </a:p>
          <a:p>
            <a:pPr marL="262800" indent="-2628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a:p>
            <a:pPr marL="262800" indent="-2628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Lucida Grande CY"/>
              </a:rPr>
              <a:t>	</a:t>
            </a:r>
            <a:endParaRPr b="0" lang="en-US" sz="2000" spc="-1" strike="noStrike">
              <a:solidFill>
                <a:srgbClr val="020202"/>
              </a:solidFill>
              <a:latin typeface="Trebuchet MS"/>
            </a:endParaRPr>
          </a:p>
        </p:txBody>
      </p:sp>
      <p:sp>
        <p:nvSpPr>
          <p:cNvPr id="755"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DC86-DB90-4269-B1F5-0ED1017D3D26}"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20202"/>
                </a:solidFill>
                <a:latin typeface="Lucida Grande CY"/>
              </a:rPr>
              <a:t>What information should be provided during the consent process (continued)?</a:t>
            </a:r>
            <a:endParaRPr b="0" lang="en-US" sz="2900" spc="-1" strike="noStrike">
              <a:solidFill>
                <a:srgbClr val="020202"/>
              </a:solidFill>
              <a:latin typeface="Trebuchet MS"/>
            </a:endParaRPr>
          </a:p>
        </p:txBody>
      </p:sp>
      <p:sp>
        <p:nvSpPr>
          <p:cNvPr id="757" name=""/>
          <p:cNvSpPr txBox="1"/>
          <p:nvPr/>
        </p:nvSpPr>
        <p:spPr>
          <a:xfrm>
            <a:off x="533520" y="2057400"/>
            <a:ext cx="8229600" cy="4525920"/>
          </a:xfrm>
          <a:prstGeom prst="rect">
            <a:avLst/>
          </a:prstGeom>
          <a:noFill/>
          <a:ln w="0">
            <a:noFill/>
          </a:ln>
        </p:spPr>
        <p:txBody>
          <a:bodyPr anchor="t">
            <a:normAutofit fontScale="97000"/>
          </a:bodyPr>
          <a:p>
            <a:pPr marL="273960" indent="-27396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Lucida Grande CY"/>
              </a:rPr>
              <a:t>History: What will be asked and why </a:t>
            </a:r>
            <a:endParaRPr b="0" lang="en-US" sz="3200" spc="-1" strike="noStrike">
              <a:solidFill>
                <a:srgbClr val="020202"/>
              </a:solidFill>
              <a:latin typeface="Trebuchet MS"/>
            </a:endParaRPr>
          </a:p>
          <a:p>
            <a:pPr marL="273960" indent="-27396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rebuchet MS"/>
            </a:endParaRPr>
          </a:p>
          <a:p>
            <a:pPr marL="273960" indent="-27396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Lucida Grande CY"/>
              </a:rPr>
              <a:t>Examination: The physical and genital examination and forensic evidence collection</a:t>
            </a:r>
            <a:endParaRPr b="0" lang="en-US" sz="3200" spc="-1" strike="noStrike">
              <a:solidFill>
                <a:srgbClr val="020202"/>
              </a:solidFill>
              <a:latin typeface="Trebuchet MS"/>
            </a:endParaRPr>
          </a:p>
          <a:p>
            <a:pPr marL="273960" indent="-27396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rebuchet MS"/>
            </a:endParaRPr>
          </a:p>
          <a:p>
            <a:pPr marL="273960" indent="-27396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Lucida Grande CY"/>
              </a:rPr>
              <a:t>Treatment: STI, HIV, emergency contraception, injury treatment and referrals</a:t>
            </a:r>
            <a:endParaRPr b="0" lang="en-US" sz="3200" spc="-1" strike="noStrike">
              <a:solidFill>
                <a:srgbClr val="020202"/>
              </a:solidFill>
              <a:latin typeface="Trebuchet MS"/>
            </a:endParaRPr>
          </a:p>
          <a:p>
            <a:pPr marL="273960" indent="-273960">
              <a:lnSpc>
                <a:spcPct val="8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a:p>
            <a:pPr marL="273960" indent="-27396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20202"/>
              </a:solidFill>
              <a:latin typeface="Trebuchet MS"/>
            </a:endParaRPr>
          </a:p>
        </p:txBody>
      </p:sp>
      <p:sp>
        <p:nvSpPr>
          <p:cNvPr id="758"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2819-1E62-48E2-BFF5-265EEA0B96FB}"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20202"/>
                </a:solidFill>
                <a:latin typeface="Lucida Grande CY"/>
              </a:rPr>
              <a:t>Points to remember:</a:t>
            </a:r>
            <a:endParaRPr b="0" lang="en-US" sz="3800" spc="-1" strike="noStrike">
              <a:solidFill>
                <a:srgbClr val="020202"/>
              </a:solidFill>
              <a:latin typeface="Trebuchet MS"/>
            </a:endParaRPr>
          </a:p>
        </p:txBody>
      </p:sp>
      <p:sp>
        <p:nvSpPr>
          <p:cNvPr id="760" name=""/>
          <p:cNvSpPr txBox="1"/>
          <p:nvPr/>
        </p:nvSpPr>
        <p:spPr>
          <a:xfrm>
            <a:off x="779040" y="1599840"/>
            <a:ext cx="7583400" cy="4437000"/>
          </a:xfrm>
          <a:prstGeom prst="rect">
            <a:avLst/>
          </a:prstGeom>
          <a:noFill/>
          <a:ln w="0">
            <a:noFill/>
          </a:ln>
        </p:spPr>
        <p:txBody>
          <a:bodyPr anchor="t">
            <a:normAutofit fontScale="94000"/>
          </a:bodyPr>
          <a:p>
            <a:pPr marL="265320" indent="-265320">
              <a:lnSpc>
                <a:spcPct val="9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20202"/>
                </a:solidFill>
                <a:latin typeface="Lucida Grande CY"/>
              </a:rPr>
              <a:t>Avoid medical terminology/jargon</a:t>
            </a:r>
            <a:endParaRPr b="0" lang="en-US" sz="3000" spc="-1" strike="noStrike">
              <a:solidFill>
                <a:srgbClr val="020202"/>
              </a:solidFill>
              <a:latin typeface="Trebuchet MS"/>
            </a:endParaRPr>
          </a:p>
          <a:p>
            <a:pPr marL="265320" indent="-265320">
              <a:lnSpc>
                <a:spcPct val="9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20202"/>
                </a:solidFill>
                <a:latin typeface="Lucida Grande CY"/>
              </a:rPr>
              <a:t>Adapt to the survivor’s communication skill level and language </a:t>
            </a:r>
            <a:endParaRPr b="0" lang="en-US" sz="3000" spc="-1" strike="noStrike">
              <a:solidFill>
                <a:srgbClr val="020202"/>
              </a:solidFill>
              <a:latin typeface="Trebuchet MS"/>
            </a:endParaRPr>
          </a:p>
          <a:p>
            <a:pPr marL="265320" indent="-265320">
              <a:lnSpc>
                <a:spcPct val="90000"/>
              </a:lnSpc>
              <a:spcBef>
                <a:spcPts val="2001"/>
              </a:spcBef>
              <a:buClr>
                <a:srgbClr val="02020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20202"/>
                </a:solidFill>
                <a:latin typeface="Lucida Grande CY"/>
              </a:rPr>
              <a:t>Everything does not need to be explained in detail at once.  Explain the key steps initially.  Then explain important information at each stage allowing the survivor to ask questions, stop and agree, or disagree to any part of the consultation.</a:t>
            </a:r>
            <a:endParaRPr b="0" lang="en-US" sz="3000" spc="-1" strike="noStrike">
              <a:solidFill>
                <a:srgbClr val="020202"/>
              </a:solidFill>
              <a:latin typeface="Trebuchet MS"/>
            </a:endParaRPr>
          </a:p>
        </p:txBody>
      </p:sp>
      <p:sp>
        <p:nvSpPr>
          <p:cNvPr id="761"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C2C6-23F7-4ACA-9C20-D70B61D9D105}"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779400" y="1828800"/>
            <a:ext cx="7755120" cy="419112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rebuchet MS"/>
              </a:rPr>
              <a:t>Thank you!</a:t>
            </a:r>
            <a:endParaRPr b="0" lang="en-US" sz="2200" spc="-1" strike="noStrike">
              <a:solidFill>
                <a:srgbClr val="020202"/>
              </a:solidFill>
              <a:latin typeface="Trebuchet MS"/>
            </a:endParaRPr>
          </a:p>
        </p:txBody>
      </p:sp>
      <p:sp>
        <p:nvSpPr>
          <p:cNvPr id="763" name="Slide Number Placeholder 3"/>
          <p:cNvSpPr/>
          <p:nvPr/>
        </p:nvSpPr>
        <p:spPr>
          <a:xfrm>
            <a:off x="8404200" y="219240"/>
            <a:ext cx="493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CA82-D922-435D-B6C1-DCC3AA65AD02}" type="slidenum">
              <a:rPr b="0" lang="en-US" sz="1200" spc="-1" strike="noStrike">
                <a:solidFill>
                  <a:srgbClr val="7030a0"/>
                </a:solidFill>
                <a:latin typeface="Lucida Grande CY"/>
              </a:rPr>
              <a:t>&lt;number&gt;</a:t>
            </a:fld>
            <a:endParaRPr b="0" lang="en-US" sz="1200" spc="-1" strike="noStrike">
              <a:solidFill>
                <a:srgbClr val="000000"/>
              </a:solidFill>
              <a:latin typeface="Times New Roman"/>
            </a:endParaRPr>
          </a:p>
        </p:txBody>
      </p:sp>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20202"/>
                </a:solidFill>
                <a:latin typeface="Trebuchet MS"/>
              </a:rPr>
              <a:t>The End</a:t>
            </a:r>
            <a:endParaRPr b="0" lang="en-US" sz="3800" spc="-1" strike="noStrike">
              <a:solidFill>
                <a:srgbClr val="020202"/>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3:51:57Z</dcterms:created>
  <dc:creator>susie</dc:creator>
  <dc:description/>
  <dc:language>en-US</dc:language>
  <cp:lastModifiedBy>UNICEF</cp:lastModifiedBy>
  <dcterms:modified xsi:type="dcterms:W3CDTF">2010-10-21T19:07:37Z</dcterms:modified>
  <cp:revision>16</cp:revision>
  <dc:subject/>
  <dc:title>Module 10:</dc:title>
</cp:coreProperties>
</file>